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8B3B-1469-48AE-A61A-E4E8F3F5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4DF1-16AD-410C-A78D-51FF2E24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3DC4-492F-42EA-ABD2-518C0EE1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FEEC-5D73-4405-A797-A82618DE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5E4C-1B85-45C2-AADB-426E4074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22E4-EAF5-47ED-A652-1BC0C779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129E-9B6A-463A-BFEE-293A296F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FF5C-1A7D-4312-87E3-750B99E1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C5F8-EA20-413B-997F-625889FB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D354-D3A8-417D-BD7C-C0388990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C6DB-F9FD-4187-AB8E-2BB8F53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EE3D-6366-401D-9C3C-C5473A37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089A-2608-4E43-8AA9-5E39AAF4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AC77-492E-4B68-8C30-610F9171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CF2A-2C19-4C64-AAA9-7FE9A59B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6F29-E29D-49B3-B4A3-54CD5045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F5FA-CEB5-4400-9D1B-D60B6498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873A-C5FB-4881-8C76-9FFC53C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5330-559C-499B-9A47-18663005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BF2D-3145-4077-9B1A-CA83FEB5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5754-F037-4A42-98FA-62B92325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95AD-E391-4543-AD89-7DDCAE19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5257-608C-4B90-85DC-32DA744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20D3-AEEA-457F-BECF-7F0675E6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BA80-E1F3-4DC5-AF48-F9B8E9704D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D184-5A3E-4C73-A1BA-2D1AE306A4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Классный час на тему «Поэты Армавира о Великой Отечественной войне»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Составила: учитель начальных классов МБОУ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ООШ №21 г.Армавира  Красницкая Валентина Николаевна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1603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Литературно-музыкальное объединение «Озарение» г.Армав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706320" y="1484280"/>
            <a:ext cx="9850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9900"/>
                </a:solidFill>
                <a:latin typeface="Arial"/>
              </a:rPr>
              <a:t>РАИСА ИВАНОВНА ЗАЙЦЕВ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80000" y="1989000"/>
            <a:ext cx="4906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иса Ивановна Зайцева родилась 27 ноября 1921 года в станице Советской Новокубанского района Краснодарского края. Ветеран В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– лауреат Всероссийского Лермонтовского конкурса «Люблю Отчизну я!» и победитель краевых конкурсов «Г.К. Жуков – защитник России» (2006 г.) - 1-е место и «Пою моё Отечество!», проведённого в честь 75-летия Образования Краснодарского края (2012 г.) – 1-е мес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311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9900"/>
                </a:solidFill>
                <a:latin typeface="Arial"/>
              </a:rPr>
              <a:t>АРКАДИЙ АЛЕКСАНДРОВИЧ ПЕТЕРСОН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000" y="7316280"/>
            <a:ext cx="3429000" cy="505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708000" y="1989000"/>
            <a:ext cx="49784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терсон Аркадий Александрович родился в семье военнослужащего в январе 1941 года  в городе Пенза.Война и голод заставили изменить место житель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34920" y="3715920"/>
            <a:ext cx="50864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 января 1965 года работает в системе газового хозяйства в г.Армавире. Ветеран газового надзора. Является членом музыкально-поэтического объединения «Озарение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Аркадий Петерсон / Стихи.ру - национальный литературный портал"/>
          <p:cNvPicPr/>
          <p:nvPr/>
        </p:nvPicPr>
        <p:blipFill>
          <a:blip r:embed="rId2"/>
          <a:stretch/>
        </p:blipFill>
        <p:spPr>
          <a:xfrm>
            <a:off x="179280" y="1916280"/>
            <a:ext cx="33130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9900"/>
                </a:solidFill>
                <a:latin typeface="Arial"/>
              </a:rPr>
              <a:t>ГУМЕНЮК НИКОЛАЙ НИКОЛАЕВИЧ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47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уменюк Николай Николаевич родился 10 октября 1940 года в нашем хуторе Первомайском. После школы окончил училище №10 в городе Симферополе, работал по специальности. Стихи начал писать, уйдя на пенсию. Большой ценитель и любитель поэзии. Член музыкально-поэтического объединения «Озарени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9900"/>
                </a:solidFill>
                <a:latin typeface="Arial"/>
              </a:rPr>
              <a:t>Итог классного часа: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С какими поэтами мы сегодня познакомили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Почему тема войны была одной из главной в их творчеств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Чему учат нас произведения о вой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Какое стихотворение вам запомнилось?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Какой праздник отмечает наш народ, как память о Великой Отечественной вой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В этот светлый праздник Победы,</a:t>
            </a:r>
            <a:br>
              <a:rPr sz="2400"/>
            </a:b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Мы помним, гордимся, чтим,</a:t>
            </a:r>
            <a:br>
              <a:rPr sz="2400"/>
            </a:b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Память наших отцов и дедов,</a:t>
            </a:r>
            <a:br>
              <a:rPr sz="2400"/>
            </a:b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И за мир их благодари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2420640"/>
            <a:ext cx="7848720" cy="352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Плейкаст &quot;САЛЮТЫ, С ДНЁМ РОЖДЕНИЯ&quot;"/>
          <p:cNvPicPr/>
          <p:nvPr/>
        </p:nvPicPr>
        <p:blipFill>
          <a:blip r:embed="rId2"/>
          <a:stretch/>
        </p:blipFill>
        <p:spPr>
          <a:xfrm>
            <a:off x="755640" y="1916280"/>
            <a:ext cx="7777080" cy="417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9900"/>
                </a:solidFill>
                <a:latin typeface="Arial"/>
              </a:rPr>
              <a:t>Источники информации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От сердца к сердцу: Сборник стихов.-Армавир: РИЦ АГПУ, 200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Аркадий Петерсон. Пусть душа Ваша горя не знает.-Армавир, 200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отапова Т.Н., Канищева С.Г. Кубановедение в работе школьной библиотеки. Г.Краснодар,2004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1:48:14Z</dcterms:created>
  <dc:creator>Дом</dc:creator>
  <dc:description/>
  <dc:language>en-US</dc:language>
  <cp:lastModifiedBy>Дом</cp:lastModifiedBy>
  <dcterms:modified xsi:type="dcterms:W3CDTF">2015-03-28T16:34:21Z</dcterms:modified>
  <cp:revision>3</cp:revision>
  <dc:subject/>
  <dc:title>Классный час на тему «Поэты Армавира о Великой Отечественной войне»</dc:title>
</cp:coreProperties>
</file>